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4B3-3A54-46A7-B2BD-5965C7F1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B9-CB17-403E-A430-2DD77520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F99-B632-4E7B-9787-A6FA2FAF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F74-D9CD-4D7D-966B-365D984D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76F-2542-4A5E-A0F0-1079E0C3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C27-F699-4C05-9047-2072227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3AF3-70A0-4BCD-8B7E-6657C728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C61A-5D2D-4DD2-8806-107F3EB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8B75-CA99-4A2E-9C6A-6F45473A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A5D2-C943-4475-B28D-3659EC81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63AB-5633-499A-96F7-5A6223F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45B-5410-4451-9603-B89956C4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D7D4-2245-4FBB-915F-26684F6C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BD56-1600-4893-BFDC-054642A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7756-FB9B-4B97-A232-86CA47DF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7E6-6A31-45A0-9588-8E206BD1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F9C7-06B3-40AE-8BE1-933D7E3C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4102E-17DC-4DB6-88C2-E6AE1D7C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2B93-AD24-48C5-8546-C6EEA8E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3D8F-F77E-4D60-BF45-8D129F2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E051-D686-46AB-8DC9-B952256C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EF86-03BE-4324-AC2C-66EA7715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A82-414E-4DB2-ACC5-15AF3F56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8224-FF82-4693-A9E5-0C0ECEDA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21E8-7B3D-4BF2-B82D-4C6EB87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6846-A381-4E55-B46E-E07B4952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CABE-9FC1-4B8E-AAFC-0F9B584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95F0A-5F44-4D35-815F-59097FF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9E8F-6D2C-4D60-9632-5A20EAD8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146C-A582-4455-8343-4462B8A5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726C-7729-41DB-BB58-B51EE165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09BE-85C9-4B7E-8A61-A6E190FB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DD72-C90A-46EC-BFF5-F41DC75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339-3C74-4622-8B23-4565D4A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0AF8-8119-41D3-BED7-27D141F1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40B0-F824-4251-A09C-80D8AC13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4EB3B-DDCF-4C51-855F-F8B471B8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5D3C-19D9-4D54-BBC0-7FF99FC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13A0-CCBD-4971-8269-73485770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BCFE7-93AD-4D8C-970F-AF6B2AFE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56DDA-630A-47C0-8AE4-0DB7086B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22F3-E1F5-44F1-850C-967BA3CD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DE0F-D4F3-4C5D-9EA8-A8932237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F43-7F0C-4D5C-9DC2-4568614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A09-08A4-4398-9D3F-C2D4642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01F-7D4A-4681-8CCB-F072970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F2E-4431-4D97-B441-D1F1354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89E-5123-4E75-A57B-B5EE9BC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C0D-EB4A-4DF2-9D6D-80D9673D79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D24-4CAE-43E6-9011-B2B880186FC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93E-1314-4738-97A7-BAAC3DCB31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1FD-93E9-405F-B90A-D3CEFA34D5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Родительское собрание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 «Права ребенка  -  обязанности родителей»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4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5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думать обо всём так, как они хотят, они имеют право организовывать клубы по интересам и участвовать в собраниях и организац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179280" y="404640"/>
          <a:ext cx="435780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43578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714560" y="285480"/>
            <a:ext cx="4429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4643280" y="21420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4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5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6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на защиту от насилия, похищения или от любой другой формы эксплуа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"/>
          <p:cNvGraphicFramePr/>
          <p:nvPr/>
        </p:nvGraphicFramePr>
        <p:xfrm>
          <a:off x="285840" y="714240"/>
          <a:ext cx="428616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428616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-360" y="620640"/>
            <a:ext cx="43578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4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ти имеют право получать медицинскую помощь и лечение таким способом, который наилучшим образом поможет им сохранить здоровье, а также получать информацию о способах лечения и об условиях, способных повлиять на их здоровь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4459320" y="214200"/>
          <a:ext cx="46846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214200"/>
                    <a:ext cx="468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-360" y="260280"/>
            <a:ext cx="396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0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, принадлежащие к этническим, религиозным или языковым меньшинствам, имеют право пользоваться своей культурой, исповедовать свою религию и пользоваться родным язы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8" descr="E:\Documents and Settings\Admin\Мои документы\Мои рисунки\дети\clip_image002.gif"/>
          <p:cNvPicPr/>
          <p:nvPr/>
        </p:nvPicPr>
        <p:blipFill>
          <a:blip r:embed="rId1"/>
          <a:stretch/>
        </p:blipFill>
        <p:spPr>
          <a:xfrm>
            <a:off x="3786120" y="1143000"/>
            <a:ext cx="514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0" y="213840"/>
            <a:ext cx="4572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8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9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получение образования, которое даёт возможность развития личности ребёнка.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http://www.zateevo.ru/userfiles/image/Upalnamoch_Prava/017.jpg"/>
          <p:cNvPicPr/>
          <p:nvPr/>
        </p:nvPicPr>
        <p:blipFill>
          <a:blip r:embed="rId1"/>
          <a:stretch/>
        </p:blipFill>
        <p:spPr>
          <a:xfrm>
            <a:off x="0" y="2142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-214560" y="0"/>
            <a:ext cx="485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7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достаточно хороший уровень жизни, соответствующий установленным стандартам. Это означает, что дети должны иметь еду, одежду и жиль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http://www.zateevo.ru/userfiles/image/Upalnamoch_Prava/016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1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играть и отдыхать в таких условиях, которые способствуют  их творческому и культурному развитию, занятием искусством, музыкой, театральными постанов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http://www.zateevo.ru/userfiles/image/Upalnamoch_Prava/200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14880" y="213840"/>
            <a:ext cx="464328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,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ЯСЬ   СВОИМИ   ПРАВАМИ,   НАДО   УВАЖАТЬ ПРАВА ДРУГИХ ЛЮДЕ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http://blago.katren.ru/assets/images/99_1.jpg"/>
          <p:cNvPicPr/>
          <p:nvPr/>
        </p:nvPicPr>
        <p:blipFill>
          <a:blip r:embed="rId1"/>
          <a:stretch/>
        </p:blipFill>
        <p:spPr>
          <a:xfrm>
            <a:off x="214200" y="3286080"/>
            <a:ext cx="4929480" cy="3409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:\МАМА\Презентации\Сашина презентация\359504974.gif"/>
          <p:cNvPicPr/>
          <p:nvPr/>
        </p:nvPicPr>
        <p:blipFill>
          <a:blip r:embed="rId2"/>
          <a:stretch/>
        </p:blipFill>
        <p:spPr>
          <a:xfrm>
            <a:off x="357120" y="0"/>
            <a:ext cx="3357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523800" y="-85680"/>
            <a:ext cx="7785000" cy="933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6429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медицинскую помощ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 свободно выражать свои взгля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всестороннее развитие и уважение человеческого достоинства( ни один ребенок не должен подвергаться жестокому обращению, насилию и оскорблениям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личную жизнь, семейную жизнь, неприкосновенность жилища, тайну перепи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ледите ли вы за статьями в журналах, программами телевидения и радио по вопросам воспитания? Читаете ли время от времени книги на эту тем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аш ребенок совершил поступок. Задумываетесь ли вы в этом случае, не является ли его поведение результатом вашего воспитания?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23640" y="765000"/>
            <a:ext cx="83581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знакомить родителей с основными правами ребенка, провозглашенными в Конвенции о правах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r>
              <a:rPr b="1" lang="ru-RU" sz="32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пополнить знания родителей о воспитании детей общедоступными сведения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довести до родителей истину, что право и обязанность воспитания детей принадлежит и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казывать помощь в разумном выстраивании отношений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28760" y="714240"/>
            <a:ext cx="82296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. Единодушны ли вы с вашим супругом в воспитании дете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. Если ребенок предлагает вам свою помощь, примете ли вы ее, даже если при этом дело может задержаться, а то и вовсе остановиться?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. Используете ли вы форму запрета или приказа только тогда, когда это действительно необходим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. Считаете ли вы, что последовательность есть один из основных педагогических принципо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. Сознаете ли вы, что среда, окружающая ребенка, оказывает на него существенное влиян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8. Признаете ли вы, что спорт и физкультура имеют большое значение для гармоничного развития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9. Сумеете ли вы не приказать своему ребенку, а попросить его о чем-либ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0. Неприятно ли вам отделываться от ребенка фразой типа: "У меня нет времени" или "Подожди, пока я закончу работу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За каждый 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положительный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ответ запишите себе 2 очка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за ответ "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иногд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" - 1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и за 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отрицательный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- 0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Менее 6 очков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 настоящем воспитании вы имеете довольно смутное представление. И хотя говорят, что начать никогда не поздно, советуем вам не уповать на эту поговорку, а, не мешкая, заняться улучшением своих знаний в эт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т 7 до 14 оч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 не делаете крупных ошибок в воспитании, но все же вам есть, над чем задуматься. А начать можно с того, что ближайший выходной полностью посвятить детям, забыв на время приятелей и производственные проблемы. И будьте уверены, дети вас полностью за это вознаградят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Более 15 оч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 вполне справляетесь со своими родительскими обязанност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 тем не менее подумайте, можно ли  еще кое-что улучш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500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dbf5f9"/>
                </a:solidFill>
                <a:latin typeface="Calibri"/>
              </a:rPr>
              <a:t>                                           </a:t>
            </a:r>
            <a:r>
              <a:rPr b="0" i="1" lang="ru-RU" sz="4100" spc="-1" strike="noStrike">
                <a:solidFill>
                  <a:srgbClr val="ffff00"/>
                </a:solidFill>
                <a:latin typeface="Calibri"/>
              </a:rPr>
              <a:t>В.Г.Белинский</a:t>
            </a:r>
            <a:endParaRPr b="0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4762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«На родителях, только на родителях лежит священнейшая обязанность сделать своих детей человеками, обязанность же учебных заведений – сделать их учеными, гражданами, членами государства на всех ступенях. Но кто не сделался прежде всего человеком, тот плохой гражданин. Так давайте же вместе будем делать наших дет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ловек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6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1042920" y="1484280"/>
            <a:ext cx="7274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Берегит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дет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ндрей Дементьев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3918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  <a:ea typeface="Arial"/>
              </a:rPr>
              <a:t>«Сначала выполнять обязанности надо, а уж после предъявлять права».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9631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9034560" cy="2846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9920" y="3285720"/>
            <a:ext cx="8256600" cy="30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. 64 Семейного кодекса 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ава и обязанности родителей по защите прав  и интересов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т. 38 Конституции РФ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Arial"/>
                <a:ea typeface="Arial"/>
              </a:rPr>
              <a:t>Забота о детях, их воспитание – равно право и обязанность родителей.</a:t>
            </a:r>
            <a:r>
              <a:rPr b="1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Родители являются законными представителями своих детей и выступают в защиту их прав и интересов в отношениях с любыми лицам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920" y="83628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ю о правах ребенка – это важный документ, регулирующий защиту прав детей во всем мире. Конвенция – это не список прав ребенка, а перечень тех обязательств, который государства возложили на себя для защиты данных пра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– это документ о правах ребенка, состоящий из 54 статей, каждая из которых описывает определенное право. Конвенция признает ребенком лицо, не достигшее 18 лет, если по законам страны возраст совершеннолетия не наступает раньше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гда страна подписывает эту Конвенцию, она принимает на себя обязанность предоставления этих прав всем детям без исклю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213920"/>
            <a:ext cx="374976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7 и статья 8.</a:t>
            </a:r>
            <a:br>
              <a:rPr sz="2900"/>
            </a:br>
            <a:r>
              <a:rPr b="1" i="1" lang="ru-RU" sz="2900" spc="-1" strike="noStrike">
                <a:solidFill>
                  <a:srgbClr val="dbf5f9"/>
                </a:solidFill>
                <a:latin typeface="Arial"/>
                <a:ea typeface="Arial"/>
              </a:rPr>
              <a:t> Все дети имеют право на имя и на приобретение гражданства, а также они имеют право на сохранение своего имени и гражданства.</a:t>
            </a:r>
            <a:br>
              <a:rPr sz="4100"/>
            </a:b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97" name="Picture 5" descr="http://www.zateevo.ru/userfiles/image/Upalnamoch_Prava/007.jpg"/>
          <p:cNvPicPr/>
          <p:nvPr/>
        </p:nvPicPr>
        <p:blipFill>
          <a:blip r:embed="rId1"/>
          <a:stretch/>
        </p:blipFill>
        <p:spPr>
          <a:xfrm>
            <a:off x="3857760" y="357120"/>
            <a:ext cx="5072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http://www.zateevo.ru/userfiles/image/Upalnamoch_Prava/008.jpg"/>
          <p:cNvPicPr/>
          <p:nvPr/>
        </p:nvPicPr>
        <p:blipFill>
          <a:blip r:embed="rId1"/>
          <a:stretch/>
        </p:blipFill>
        <p:spPr>
          <a:xfrm>
            <a:off x="414324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4"/>
          <p:cNvSpPr/>
          <p:nvPr/>
        </p:nvSpPr>
        <p:spPr>
          <a:xfrm>
            <a:off x="179280" y="549360"/>
            <a:ext cx="41436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9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жить со своими родителями, за исключением случаев, когда это невозмо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43:06Z</dcterms:created>
  <dc:creator>Пользователь</dc:creator>
  <dc:description/>
  <dc:language>en-US</dc:language>
  <cp:lastModifiedBy>UserXP</cp:lastModifiedBy>
  <dcterms:modified xsi:type="dcterms:W3CDTF">2010-12-09T21:25:23Z</dcterms:modified>
  <cp:revision>33</cp:revision>
  <dc:subject/>
  <dc:title>Переменные: тип, имя, значение</dc:title>
</cp:coreProperties>
</file>